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8AB-3AB3-4CDD-A903-6F03A5D2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81D-3EA1-41E1-8909-7DAA6BD3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ABF-857B-4764-B7C8-0F938AA5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65A-C728-4D13-9749-87FE9188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F7F-5BFC-4D8E-81BD-ED4EA0D4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C8F-824D-4FB8-9D04-27A45FEF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AC6-D576-43EB-9DEC-9063F7BC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EAD-2A84-4E6D-AF6F-4759DBF0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14F-812E-47DE-AFA2-7B71402F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5EF-01B3-49A7-948D-BA062F7F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8D4-3FB3-45C6-B33E-AFCD00D6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921-E013-425C-B9A3-49C851FC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6A73-8CD2-41A5-8ECE-5D79DC45D2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mbria"/>
              </a:rPr>
              <a:t>2B Back-to-back stem plo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e looked at stem plots in Exercise  1B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For bivariate data, we use back-to-back stem plot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71720" y="2286000"/>
          <a:ext cx="6095880" cy="2022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 to see shape/density of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good for small data 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 to identify out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good for very large data 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 to find 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Q. 1, 3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2, 5, 6, 7, 8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you are asked to comment on the data, compare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Media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Shape (symmetrical, skewed positively or negatively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Spread (refer to standard deviation or IQR)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2:21:55Z</dcterms:created>
  <dc:creator>08843474</dc:creator>
  <dc:description/>
  <dc:language>en-US</dc:language>
  <cp:lastModifiedBy>08843474</cp:lastModifiedBy>
  <dcterms:modified xsi:type="dcterms:W3CDTF">2011-02-06T03:48:51Z</dcterms:modified>
  <cp:revision>10</cp:revision>
  <dc:subject/>
  <dc:title>Bivariate Data</dc:title>
</cp:coreProperties>
</file>